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969-48A9-40A2-9612-A53D58FB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D7B-A58F-4A58-8ADD-A43CE5DC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789-9040-4051-8376-1E6E6E31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6CA-1C56-4D45-8A29-A5FF689E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069-D41A-412A-A96E-BF042884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969-78AE-49AA-988D-D9980351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8F4-21FD-4255-B266-C203C03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400-3B30-4012-A578-F7A90642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E49-B0EB-43F7-B09B-E8E2908E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377-8F22-45F6-B646-4993DD83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34B-4B1F-4FC6-B60B-B34EED2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469-E577-4359-8263-5777AA65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D25A-F5FE-4005-B361-F2EF79503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“Cone of Experienc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762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ramatiz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get closer to certain realities that are no longer available at firs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rring and attention 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 learns to understand intimately the character he port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s cooperativ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time consuming withou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surate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on is limited to f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68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1629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Contriv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“editing”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s for confusing or unmanageable first – han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r to handle, manipulate or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cation leads to misconceptio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orted views, and  in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freedom to handle expensive or frag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, mock – ups, specime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2d0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Direct, Purposeful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ridged version of lif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participation with responsibility for the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s for the most effective and last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things can be learned through direc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hand experi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57240"/>
            <a:ext cx="7477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33520"/>
            <a:ext cx="5486400" cy="61722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5715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5181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4648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1148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219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752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6000" y="2286000"/>
            <a:ext cx="163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rdings, Radi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ill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1960" y="281952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tion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0440" y="32004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7840" y="36576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hi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760" y="41148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6960" y="46483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2578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atize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560" y="57150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ive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62485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0560" y="632448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, Purposeful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371240" y="533520"/>
            <a:ext cx="2971800" cy="59436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7765400">
            <a:off x="367560" y="298476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Degree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600" y="6172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376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500"/>
                            </p:stCondLst>
                            <p:childTnLst>
                              <p:par>
                                <p:cTn id="5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500"/>
                            </p:stCondLst>
                            <p:childTnLst>
                              <p:par>
                                <p:cTn id="5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000"/>
                            </p:stCondLst>
                            <p:childTnLst>
                              <p:par>
                                <p:cTn id="5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500"/>
                            </p:stCondLst>
                            <p:childTnLst>
                              <p:par>
                                <p:cTn id="5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23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46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5791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9528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240" y="1295280"/>
            <a:ext cx="4690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one of Experi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90920" y="228600"/>
            <a:ext cx="6324480" cy="6400800"/>
            <a:chOff x="2590920" y="228600"/>
            <a:chExt cx="6324480" cy="6400800"/>
          </a:xfrm>
        </p:grpSpPr>
        <p:sp>
          <p:nvSpPr>
            <p:cNvPr id="46" name=""/>
            <p:cNvSpPr/>
            <p:nvPr/>
          </p:nvSpPr>
          <p:spPr>
            <a:xfrm>
              <a:off x="2971800" y="57913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1280" y="6019920"/>
              <a:ext cx="502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86200" y="541008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48006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19720" y="41911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24280" y="35812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2880" y="30481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81480" y="2514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10080" y="1981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38680" y="1447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81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12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62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720" y="34290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580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30720" y="5486400"/>
              <a:ext cx="526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59320" y="4952880"/>
              <a:ext cx="472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6388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6880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81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526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11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228600"/>
              <a:ext cx="6324480" cy="6400800"/>
            </a:xfrm>
            <a:prstGeom prst="triangle">
              <a:avLst>
                <a:gd name="adj" fmla="val 50000"/>
              </a:avLst>
            </a:prstGeom>
            <a:solidFill>
              <a:srgbClr val="62d0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25146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6920" y="198108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0800" y="6095880"/>
              <a:ext cx="4872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Direct, Purposeful Experie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86800" y="5562720"/>
              <a:ext cx="3352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ff"/>
                  </a:solidFill>
                  <a:latin typeface="Arial"/>
                </a:rPr>
                <a:t>Contrived Experienc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8040" y="5029200"/>
              <a:ext cx="340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Dramatized Experien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3800" y="4495680"/>
              <a:ext cx="22093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3300"/>
                  </a:solidFill>
                  <a:latin typeface="Arial"/>
                </a:rPr>
                <a:t>Demonstrat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53600" y="3962520"/>
              <a:ext cx="14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ield Tri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9200" y="3048120"/>
              <a:ext cx="13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Telev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>
              <a:hlinkClick r:id="rId2" action="ppaction://hlinksldjump"/>
            </p:cNvPr>
            <p:cNvSpPr/>
            <p:nvPr/>
          </p:nvSpPr>
          <p:spPr>
            <a:xfrm>
              <a:off x="4802040" y="2590920"/>
              <a:ext cx="180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3366"/>
                  </a:solidFill>
                  <a:latin typeface="Arial"/>
                </a:rPr>
                <a:t>Motion Pictur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0600" y="198108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cordings, Radi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ill Pi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>
              <a:hlinkClick r:id="rId3" action="ppaction://hlinksldjump"/>
            </p:cNvPr>
            <p:cNvSpPr/>
            <p:nvPr/>
          </p:nvSpPr>
          <p:spPr>
            <a:xfrm>
              <a:off x="5027400" y="160020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Visual Symb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>
              <a:hlinkClick r:id="rId4" action="ppaction://hlinksldjump"/>
            </p:cNvPr>
            <p:cNvSpPr/>
            <p:nvPr/>
          </p:nvSpPr>
          <p:spPr>
            <a:xfrm>
              <a:off x="5261040" y="838080"/>
              <a:ext cx="91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rb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ymbo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5520" y="144792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68800" y="34290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9740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>
              <a:hlinkClick r:id="rId5" action="ppaction://hlinksldjump"/>
            </p:cNvPr>
            <p:cNvSpPr/>
            <p:nvPr/>
          </p:nvSpPr>
          <p:spPr>
            <a:xfrm>
              <a:off x="5105520" y="3429000"/>
              <a:ext cx="1171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3399"/>
                  </a:solidFill>
                  <a:latin typeface="Arial"/>
                </a:rPr>
                <a:t>Exhibi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76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5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152280" y="6248520"/>
            <a:ext cx="304920" cy="28080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23453" h="21600">
                <a:moveTo>
                  <a:pt x="0" y="0"/>
                </a:moveTo>
                <a:lnTo>
                  <a:pt x="23453" y="0"/>
                </a:lnTo>
                <a:lnTo>
                  <a:pt x="23453" y="21600"/>
                </a:lnTo>
                <a:lnTo>
                  <a:pt x="0" y="21600"/>
                </a:lnTo>
                <a:close/>
              </a:path>
              <a:path fill="lightenLess" w="23453" h="21600">
                <a:moveTo>
                  <a:pt x="0" y="0"/>
                </a:moveTo>
                <a:lnTo>
                  <a:pt x="23453" y="0"/>
                </a:lnTo>
                <a:lnTo>
                  <a:pt x="22053" y="1400"/>
                </a:lnTo>
                <a:lnTo>
                  <a:pt x="1400" y="1400"/>
                </a:lnTo>
                <a:close/>
              </a:path>
              <a:path fill="darken" w="23453" h="21600">
                <a:moveTo>
                  <a:pt x="23453" y="0"/>
                </a:moveTo>
                <a:lnTo>
                  <a:pt x="23453" y="21600"/>
                </a:lnTo>
                <a:lnTo>
                  <a:pt x="22053" y="20200"/>
                </a:lnTo>
                <a:lnTo>
                  <a:pt x="22053" y="1400"/>
                </a:lnTo>
                <a:close/>
              </a:path>
              <a:path fill="darkenLess" w="23453" h="21600">
                <a:moveTo>
                  <a:pt x="23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3" y="20200"/>
                </a:lnTo>
                <a:close/>
              </a:path>
              <a:path fill="lighten" w="23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53" h="21600">
                <a:moveTo>
                  <a:pt x="15225" y="10800"/>
                </a:moveTo>
                <a:lnTo>
                  <a:pt x="4720" y="17806"/>
                </a:lnTo>
                <a:lnTo>
                  <a:pt x="4720" y="3794"/>
                </a:lnTo>
                <a:close/>
              </a:path>
              <a:path fill="darken" w="23453" h="21600">
                <a:moveTo>
                  <a:pt x="17071" y="3794"/>
                </a:moveTo>
                <a:lnTo>
                  <a:pt x="17071" y="17806"/>
                </a:lnTo>
                <a:lnTo>
                  <a:pt x="18733" y="17806"/>
                </a:lnTo>
                <a:lnTo>
                  <a:pt x="187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066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bal Symb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 medium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 no physical resemblance to the objects or ideas for which they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a word for concretion, idea, scientific principle, formula or philosophic apho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 highly 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81200" cy="61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762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isual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kboard/whiteboard, flat maps, diagrams,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s the tempo of presentation of idea, topic o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easy to procure and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lack of ability to use th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of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cation of visual material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to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2193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solidFill>
            <a:srgbClr val="62d0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cordings, Radio, Still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– getting, particularly pro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retize verbal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size of pictures or illu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ness of proj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difficulties between ra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and classroom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9651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Television and Motion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solution to time and space 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vides “windows to the world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ffective for presenting movement, continuity of ideas or ev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e for dangerous direct learning experie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imitations: expens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iewing probl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iming with classroom lessons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isconceptions about time, size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d id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0666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4572000" cy="761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xhi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objects or processes otherwise impossible inside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ure to new ideas, discoveries, i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 that may be encount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littl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–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198108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562360" cy="609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ized explanation of an important fact or idea o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require nothing more than observation or students may be asked to do what has just been shown how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s or processes might not b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ed or conceived very w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ility to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33376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Field Tr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taken primarily for the purpose of experiencing something that cannot be encountered with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ich experience in learning about objects, systems, and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time-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exposure to danger 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cy of the community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07:01:09Z</dcterms:created>
  <dc:creator>PERALTA</dc:creator>
  <dc:description/>
  <dc:language>en-US</dc:language>
  <cp:lastModifiedBy>riza</cp:lastModifiedBy>
  <dcterms:modified xsi:type="dcterms:W3CDTF">2009-08-09T07:13:11Z</dcterms:modified>
  <cp:revision>54</cp:revision>
  <dc:subject/>
  <dc:title>Slide 1</dc:title>
</cp:coreProperties>
</file>